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ipdn102.wav" ContentType="audio/x-wav"/>
  <Override PartName="/ppt/media/zapbig0g.wav" ContentType="audio/x-wav"/>
  <Override PartName="/ppt/media/camera.wav" ContentType="audio/x-wav"/>
  <Override PartName="/ppt/media/shiphorn.wav" ContentType="audio/x-wav"/>
  <Override PartName="/ppt/media/bserie06.wav" ContentType="audio/x-wav"/>
  <Override PartName="/ppt/media/jetflyby2.wav" ContentType="audio/x-wav"/>
  <Override PartName="/ppt/media/highchime.wav" ContentType="audio/x-wav"/>
  <Override PartName="/ppt/media/caralarmoff.wav" ContentType="audio/x-wav"/>
  <Override PartName="/ppt/media/lzipup01.wav" ContentType="audio/x-wav"/>
  <Override PartName="/ppt/media/glass.wav" ContentType="audio/x-wav"/>
  <Override PartName="/ppt/media/zipup202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DD8A-B7C8-4E18-A8D5-DA10246AF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CA2C-1F4F-461D-AF53-0449071D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3E76-A362-442A-BFA3-85B77F174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8B82-27FE-4350-9427-C6C48C6A0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99C2-F5BE-400D-BFEA-0828F95D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7C42-351D-4FCD-9803-DA8F8510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B0C9-9B3F-47EC-B932-CC4724A9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A7F7-CADC-4325-9B26-4851AA1F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47A7-E493-47A2-8376-6B8619BC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8592-01FD-4743-AA40-C0E0ED75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9DFD-640F-42C1-B7EF-D55613DA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C019-541D-4731-9628-5F1637FB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28E9-F7FC-4D85-AA01-180534421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bserie06.wav"/><Relationship Id="rId3" Type="http://schemas.openxmlformats.org/officeDocument/2006/relationships/audio" Target="../media/highchime.wav"/><Relationship Id="rId4" Type="http://schemas.openxmlformats.org/officeDocument/2006/relationships/audio" Target="../media/caralarmoff.wav"/><Relationship Id="rId5" Type="http://schemas.openxmlformats.org/officeDocument/2006/relationships/audio" Target="../media/caralarmoff.wav"/><Relationship Id="rId6" Type="http://schemas.openxmlformats.org/officeDocument/2006/relationships/audio" Target="../media/caralarmoff.wav"/><Relationship Id="rId7" Type="http://schemas.openxmlformats.org/officeDocument/2006/relationships/audio" Target="../media/caralarmoff.wav"/><Relationship Id="rId8" Type="http://schemas.openxmlformats.org/officeDocument/2006/relationships/audio" Target="../media/caralarmoff.wav"/><Relationship Id="rId9" Type="http://schemas.openxmlformats.org/officeDocument/2006/relationships/audio" Target="../media/caralarmoff.wav"/><Relationship Id="rId10" Type="http://schemas.openxmlformats.org/officeDocument/2006/relationships/audio" Target="../media/caralarmoff.wav"/><Relationship Id="rId11" Type="http://schemas.openxmlformats.org/officeDocument/2006/relationships/audio" Target="../media/caralarmoff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bserie06.wav"/><Relationship Id="rId5" Type="http://schemas.openxmlformats.org/officeDocument/2006/relationships/audio" Target="../media/caralarmoff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glass.wav"/><Relationship Id="rId9" Type="http://schemas.openxmlformats.org/officeDocument/2006/relationships/audio" Target="../media/bserie06.wav"/><Relationship Id="rId10" Type="http://schemas.openxmlformats.org/officeDocument/2006/relationships/audio" Target="../media/caralarmoff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glass.wav"/><Relationship Id="rId14" Type="http://schemas.openxmlformats.org/officeDocument/2006/relationships/audio" Target="../media/bserie06.wav"/><Relationship Id="rId15" Type="http://schemas.openxmlformats.org/officeDocument/2006/relationships/audio" Target="../media/caralarmoff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bserie06.wav"/><Relationship Id="rId5" Type="http://schemas.openxmlformats.org/officeDocument/2006/relationships/audio" Target="../media/caralarmoff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bserie06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bserie06.wav"/><Relationship Id="rId5" Type="http://schemas.openxmlformats.org/officeDocument/2006/relationships/audio" Target="../media/caralarmoff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audio" Target="../media/caralarmoff.wav"/><Relationship Id="rId3" Type="http://schemas.openxmlformats.org/officeDocument/2006/relationships/audio" Target="../media/glass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zipup202.wav"/><Relationship Id="rId11" Type="http://schemas.openxmlformats.org/officeDocument/2006/relationships/audio" Target="../media/zipup202.wav"/><Relationship Id="rId12" Type="http://schemas.openxmlformats.org/officeDocument/2006/relationships/audio" Target="../media/zipup202.wav"/><Relationship Id="rId13" Type="http://schemas.openxmlformats.org/officeDocument/2006/relationships/audio" Target="../media/zipup202.wav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bserie06.wav"/><Relationship Id="rId7" Type="http://schemas.openxmlformats.org/officeDocument/2006/relationships/audio" Target="../media/caralarmoff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caralarmoff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audio" Target="../media/shiphorn.wav"/><Relationship Id="rId15" Type="http://schemas.openxmlformats.org/officeDocument/2006/relationships/audio" Target="../media/shiphorn.wav"/><Relationship Id="rId16" Type="http://schemas.openxmlformats.org/officeDocument/2006/relationships/audio" Target="../media/shiphorn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bserie06.wav"/><Relationship Id="rId5" Type="http://schemas.openxmlformats.org/officeDocument/2006/relationships/audio" Target="../media/caralarmoff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caralarmoff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shiphorn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bserie06.wav"/><Relationship Id="rId5" Type="http://schemas.openxmlformats.org/officeDocument/2006/relationships/audio" Target="../media/caralarmoff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caralarmoff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shiphorn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12760" y="1397160"/>
          <a:ext cx="8744040" cy="4140000"/>
        </p:xfrm>
        <a:graphic>
          <a:graphicData uri="http://schemas.openxmlformats.org/drawingml/2006/table">
            <a:tbl>
              <a:tblPr/>
              <a:tblGrid>
                <a:gridCol w="2789280"/>
                <a:gridCol w="2971800"/>
                <a:gridCol w="29829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omi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nomi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or more term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1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1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1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1488960" y="725400"/>
            <a:ext cx="62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thods of Facto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3960" y="193680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95640" y="1920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21360" y="193500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520" y="2440080"/>
            <a:ext cx="279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ce of Squ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05280" y="2482920"/>
            <a:ext cx="298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ect Square Trinom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87640" y="344484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Binomials (Shortcu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14640" y="4481640"/>
            <a:ext cx="291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Binomials   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t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66040" y="2500200"/>
            <a:ext cx="17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82520" y="19461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G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93840" y="193032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G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19920" y="194472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G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566040" y="2516040"/>
            <a:ext cx="17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Grou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28760" y="2190600"/>
                <a:ext cx="335412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4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ding the Greatest Common F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670040" y="2981160"/>
                <a:ext cx="251928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168120" y="1163520"/>
            <a:ext cx="897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greatest common factor and factor it out of the ex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880920" y="3043080"/>
                <a:ext cx="897120" cy="8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959120" y="2970360"/>
                <a:ext cx="11206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908600" y="2185920"/>
                <a:ext cx="31608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71600" y="4235400"/>
                <a:ext cx="26812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870280" y="3081240"/>
                <a:ext cx="10652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875200" y="2905200"/>
                <a:ext cx="251964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975200" y="2921040"/>
                <a:ext cx="11206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270480" y="2917800"/>
                <a:ext cx="78444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7058160" y="2992320"/>
                <a:ext cx="10094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457280" y="4994280"/>
                <a:ext cx="251928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063800" y="5113440"/>
                <a:ext cx="5047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808280" y="4978440"/>
                <a:ext cx="78408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470320" y="5083200"/>
                <a:ext cx="12888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138320" y="1749600"/>
                <a:ext cx="30668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ing Comple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281320" y="2540160"/>
                <a:ext cx="251928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168120" y="1163520"/>
            <a:ext cx="897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 the expression complet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465200" y="2602080"/>
                <a:ext cx="9525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709720" y="2529000"/>
                <a:ext cx="8398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462480" y="2629080"/>
                <a:ext cx="10094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831960" y="1812960"/>
                <a:ext cx="41688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ing Comple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017800" y="2644920"/>
                <a:ext cx="352728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68120" y="1163520"/>
            <a:ext cx="897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 the expression complet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174680" y="2616120"/>
                <a:ext cx="9525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503440" y="2598840"/>
                <a:ext cx="6714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060720" y="2689200"/>
                <a:ext cx="12333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265640" y="2685960"/>
                <a:ext cx="8967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093680" y="1812960"/>
                <a:ext cx="39769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ing Comple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139840" y="2616120"/>
                <a:ext cx="352764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168120" y="1163520"/>
            <a:ext cx="897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 the expression complet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457280" y="2587680"/>
                <a:ext cx="7844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70040" y="2570040"/>
                <a:ext cx="7826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127320" y="2660760"/>
                <a:ext cx="13464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303800" y="2657520"/>
                <a:ext cx="10652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33280" y="1133640"/>
            <a:ext cx="89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 the polynomials horizontally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65280" y="1738440"/>
                <a:ext cx="385416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all Multiplying Polynomials Horizont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60320" y="3546360"/>
                <a:ext cx="104472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690560" y="3656160"/>
                <a:ext cx="16336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513240" y="3579840"/>
                <a:ext cx="125388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803840" y="3679920"/>
                <a:ext cx="9205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703760" y="4767120"/>
                <a:ext cx="90648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000240" y="4714920"/>
                <a:ext cx="16081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808280" y="4591080"/>
                <a:ext cx="12348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82640" y="4556160"/>
                <a:ext cx="10285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20640" y="2724120"/>
                <a:ext cx="257184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187800" y="2746440"/>
                <a:ext cx="253368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912960" y="1779480"/>
                <a:ext cx="464796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ing by Grou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352520" y="2876400"/>
                <a:ext cx="218448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168120" y="1163520"/>
            <a:ext cx="897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 the expression complet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77800" y="2836800"/>
                <a:ext cx="8413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695600" y="3112920"/>
                <a:ext cx="615960" cy="7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289240" y="2965320"/>
                <a:ext cx="10094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595520" y="3949560"/>
                <a:ext cx="218592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747960" y="3962520"/>
                <a:ext cx="19065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1525680" y="2590920"/>
            <a:ext cx="196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89280" y="2590920"/>
            <a:ext cx="17971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505400" y="2908440"/>
                <a:ext cx="218448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052880" y="2992320"/>
                <a:ext cx="5605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624560" y="3159000"/>
                <a:ext cx="10634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595840" y="2967120"/>
                <a:ext cx="10098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517920" y="3251160"/>
                <a:ext cx="56052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648320" y="3098880"/>
                <a:ext cx="6174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5594400" y="3083040"/>
                <a:ext cx="6174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ship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ship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ship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855720" y="1812960"/>
                <a:ext cx="47926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ing by Grou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8120" y="1163520"/>
            <a:ext cx="897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 the expression complet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352520" y="2876400"/>
                <a:ext cx="218448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52320" y="2908440"/>
                <a:ext cx="78444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722600" y="3168720"/>
                <a:ext cx="5601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262240" y="2994120"/>
                <a:ext cx="10652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650960" y="3949560"/>
                <a:ext cx="207504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747960" y="3962520"/>
                <a:ext cx="19065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1525680" y="2590920"/>
            <a:ext cx="196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89280" y="2590920"/>
            <a:ext cx="17971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505400" y="2908440"/>
                <a:ext cx="218448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051440" y="3027240"/>
                <a:ext cx="5029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875120" y="3154320"/>
                <a:ext cx="5605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400720" y="3008160"/>
                <a:ext cx="10652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490920" y="3111480"/>
                <a:ext cx="6159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ship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363680" y="1812960"/>
                <a:ext cx="39290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ing by Grou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8120" y="1163520"/>
            <a:ext cx="897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 the expression complet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352520" y="2876400"/>
                <a:ext cx="218448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69960" y="2908440"/>
                <a:ext cx="84132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708200" y="3022560"/>
                <a:ext cx="6159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346480" y="2994120"/>
                <a:ext cx="89676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677960" y="3949560"/>
                <a:ext cx="201924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3803760" y="3962520"/>
                <a:ext cx="179388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1525680" y="2590920"/>
            <a:ext cx="196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89280" y="2590920"/>
            <a:ext cx="17971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505400" y="2908440"/>
                <a:ext cx="218448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183200" y="2995560"/>
                <a:ext cx="3902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848120" y="3040200"/>
                <a:ext cx="6159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5484960" y="3008160"/>
                <a:ext cx="8967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490920" y="3111480"/>
                <a:ext cx="6159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ship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5-02-07T14:34:42Z</dcterms:modified>
  <cp:revision>24</cp:revision>
  <dc:subject/>
  <dc:title>Slide 1</dc:title>
</cp:coreProperties>
</file>